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32A-2CB4-45B8-A82D-446DDF30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A47C-1B66-43C3-B12F-0425F349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5F3-FD5E-4B12-BFAC-75E3B2F8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0E85-EDC1-4B35-A306-3BB0A2D7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A360-CA2B-4236-B06A-710C1A3B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6DA6-547D-4633-BAC1-F7B2D0E9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3174-1B53-4E77-92EC-1BCC7123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9F79-1524-4E49-A0F6-34458D7C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95EB-CFF8-4D06-B626-157F4A54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0D1A-A152-4CD3-9049-A53ED46A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9619-5BAE-411A-AAC4-A911F6F5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599-2A9D-4CD4-9CDA-F9A65830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6FE1-BFBD-4956-9FDE-22DD7EB3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8E82-CBCF-4A45-8534-1886D287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71E9-9B73-493B-9B73-5A08D9EF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A35E-6A88-430D-B7E7-04C79FAC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F2C5-4D15-4FE2-AD28-3447446D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4A88-F06E-445D-A7DD-EF8AD95E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B118-722B-4EA6-B783-6035C857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77C0-A4DC-4AFF-BF90-CF9DACB0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F50-F80B-468A-AD87-67354FE8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3267-B002-4385-9219-8245BF2A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2A72-1D1B-4894-B384-D43880CF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B718-8DA8-453A-B646-36D9F55A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2C30-D39F-47F8-9C57-25F3E725CBE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75CC-08CE-4638-A215-0B31ADDAE72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6633"/>
                </a:solidFill>
                <a:latin typeface="Times New Roman"/>
              </a:rPr>
              <a:t>(Inheritance)</a:t>
            </a:r>
            <a:endParaRPr b="0" lang="en-US" sz="7200" spc="-1" strike="noStrike">
              <a:solidFill>
                <a:srgbClr val="a08366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Times New Roman"/>
              </a:rPr>
              <a:t>Genetics</a:t>
            </a:r>
            <a:endParaRPr b="0" lang="en-US" sz="9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33"/>
                </a:solidFill>
                <a:latin typeface="Times New Roman"/>
              </a:rPr>
              <a:t>Phenotype</a:t>
            </a:r>
            <a:endParaRPr b="0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6633"/>
                </a:solidFill>
                <a:latin typeface="Times New Roman"/>
              </a:rPr>
              <a:t>what the trait looks like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6633"/>
                </a:solidFill>
                <a:latin typeface="Times New Roman"/>
              </a:rPr>
              <a:t>Example:  Tall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33"/>
                </a:solidFill>
                <a:latin typeface="Times New Roman"/>
              </a:rPr>
              <a:t>Genetics</a:t>
            </a:r>
            <a:endParaRPr b="0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6633"/>
                </a:solidFill>
                <a:latin typeface="Times New Roman"/>
              </a:rPr>
              <a:t>the study of  how parents pass on their traits to their children 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53000" y="2909880"/>
          <a:ext cx="3813120" cy="22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3000" y="2909880"/>
                    <a:ext cx="381312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33"/>
                </a:solidFill>
                <a:latin typeface="Times New Roman"/>
              </a:rPr>
              <a:t>Allele</a:t>
            </a:r>
            <a:endParaRPr b="0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6633"/>
                </a:solidFill>
                <a:latin typeface="Times New Roman"/>
              </a:rPr>
              <a:t>one of two or more alternative forms of a gene (one letter)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33"/>
                </a:solidFill>
                <a:latin typeface="Times New Roman"/>
              </a:rPr>
              <a:t>Homozygous</a:t>
            </a:r>
            <a:endParaRPr b="0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someone who receives the same allele from both parents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6633"/>
                </a:solidFill>
                <a:latin typeface="Times New Roman"/>
              </a:rPr>
              <a:t>Example:TT, tt</a:t>
            </a:r>
            <a:r>
              <a:rPr b="0" lang="en-US" sz="5000" spc="-1" strike="noStrike">
                <a:solidFill>
                  <a:srgbClr val="996633"/>
                </a:solidFill>
                <a:latin typeface="Times New Roman"/>
              </a:rPr>
              <a:t>	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33"/>
                </a:solidFill>
                <a:latin typeface="Times New Roman"/>
              </a:rPr>
              <a:t>Heterozygous</a:t>
            </a:r>
            <a:endParaRPr b="0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996633"/>
                </a:solidFill>
                <a:latin typeface="Times New Roman"/>
              </a:rPr>
              <a:t>someone who receives different alleles from each parent</a:t>
            </a:r>
            <a:endParaRPr b="0" lang="en-US" sz="4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6633"/>
                </a:solidFill>
                <a:latin typeface="Times New Roman"/>
              </a:rPr>
              <a:t>Example:Tt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33"/>
                </a:solidFill>
                <a:latin typeface="Times New Roman"/>
              </a:rPr>
              <a:t>Dominant Traits</a:t>
            </a:r>
            <a:endParaRPr b="0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trait that is stronger than anoth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11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: tall (T)  is dominant to short (t)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53000" y="2452680"/>
          <a:ext cx="3813120" cy="31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3000" y="2452680"/>
                    <a:ext cx="3813120" cy="31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33"/>
                </a:solidFill>
                <a:latin typeface="Times New Roman"/>
              </a:rPr>
              <a:t>Recessive Traits</a:t>
            </a:r>
            <a:endParaRPr b="0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rait that is weaker than anoth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11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: short (t) is recessive to tall (T)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53000" y="1995480"/>
          <a:ext cx="381312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3000" y="1995480"/>
                    <a:ext cx="381312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33"/>
                </a:solidFill>
                <a:latin typeface="Times New Roman"/>
              </a:rPr>
              <a:t>Combinations</a:t>
            </a:r>
            <a:endParaRPr b="0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Homozygous Dominant (TT)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996633"/>
                </a:solidFill>
                <a:latin typeface="Times New Roman"/>
              </a:rPr>
              <a:t>(aka pure Dominant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Homozygous Recessive (tt)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996633"/>
                </a:solidFill>
                <a:latin typeface="Times New Roman"/>
              </a:rPr>
              <a:t>(aka pure recessive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Heterozygous (Tt)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996633"/>
                </a:solidFill>
                <a:latin typeface="Times New Roman"/>
              </a:rPr>
              <a:t>(aka hybrid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33"/>
                </a:solidFill>
                <a:latin typeface="Times New Roman"/>
              </a:rPr>
              <a:t>Genotype</a:t>
            </a:r>
            <a:endParaRPr b="0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6633"/>
                </a:solidFill>
                <a:latin typeface="Times New Roman"/>
              </a:rPr>
              <a:t>the alleles that a person receives (the letters)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6633"/>
                </a:solidFill>
                <a:latin typeface="Times New Roman"/>
              </a:rPr>
              <a:t>Example:  TT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4T21:37:16Z</dcterms:created>
  <dc:creator>Plano I.S.D.</dc:creator>
  <dc:description/>
  <dc:language>en-US</dc:language>
  <cp:lastModifiedBy>Plano ISD</cp:lastModifiedBy>
  <cp:lastPrinted>1999-03-14T21:36:08Z</cp:lastPrinted>
  <dcterms:modified xsi:type="dcterms:W3CDTF">2004-11-16T14:18:31Z</dcterms:modified>
  <cp:revision>15</cp:revision>
  <dc:subject/>
  <dc:title>Chapter 7</dc:title>
</cp:coreProperties>
</file>